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C38-2579-4B0F-A8CF-15E32682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8DC-4DC7-4750-BCD2-76EBFD3C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9B7-A6BD-46BE-9D67-F2FE5C91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CEB-B110-470F-9CA6-F7A06932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EE8-A6A2-4D6A-986A-C12B7BC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321-098E-445B-A986-DD3261D0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8DF-621C-4620-8285-0FDF0249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784-78F6-4850-959B-DFDBE38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6FB-EB1A-422F-8C91-34C277F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056-94D1-46B9-8193-7D07C257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11D-464C-4F68-B22A-BA59484E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615-F338-4E61-8283-E4CE52F0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D4A-8456-48AE-B72A-4DDFF3B8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eting Interests in the 199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Groups: French an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ized Groups: Aboriginals; Franco-Canadians outside Quebec; other ethnic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5909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orm Party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ilingualism outside 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not a ‘distinct society’ because every province is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qualization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 to the provi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milarities between Reform and Bloc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447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12952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971800"/>
            <a:ext cx="16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ian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809880"/>
            <a:ext cx="27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Party of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80060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648320"/>
            <a:ext cx="12956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81952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733920"/>
            <a:ext cx="2971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191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2767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105520" y="48769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equalization payments just?  Should wealthy provinces be obliged to help out poorer provinces? Provide reasons for your respo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Quebec be considered a ‘distinct society’ or just one province among many?  Consider the history of French-English relations.  Provide reasons for your respo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Lost in the Shuffle?</a:t>
            </a:r>
            <a:br>
              <a:rPr sz="45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please read text, pp. 358-359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o-Canadians outside Que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ig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etien moves on, Quebec nationalists even more u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zeau calls for a referendu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ctober 30, 1995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: 49.4% -- No: 50.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vil is in the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it a challenge to reach a consensus at Meech Lake and Charlottet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y bother spending so much time and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070000" cy="195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0400" y="1857240"/>
            <a:ext cx="32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rian Mulr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years spent labouring over the constitution and nothing to show for 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happened to the Progressive Conservative pa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909800" cy="211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508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m Campbell - first female PM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 days in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al Landslide - huge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gains for new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loc Quebecois 60+ seats - official opposi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form - 50+ sea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Conservatives?… 2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 election:  Fundament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iona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s in the House of Co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some Canadians be concerned about these develop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PC MPs up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these MPs be ups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reak from the PC Party.  They want Quebec to break from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496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Canadian Conservativ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erta; British Colum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zation: what i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25780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Black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gave Alberta 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not quite as rich, but still a ‘have’ province (from coal, l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23227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838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read the 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, a ‘have-not’ province, got $5 billion in equalization payments in 2001 (now about $8 billion/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at Albertans thought of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ck</cp:lastModifiedBy>
  <dcterms:modified xsi:type="dcterms:W3CDTF">2010-10-29T05:37:51Z</dcterms:modified>
  <cp:revision>4</cp:revision>
  <dc:subject/>
  <dc:title>Competing Interests in the 1990s</dc:title>
</cp:coreProperties>
</file>